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E51E6-1BF0-4474-9BDD-F50B61BF4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B8A71-3986-4B6E-8903-DC840322F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98A-C03C-46CF-B1B5-14146435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355-086A-42DE-9F17-9F4AB4C0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473-972F-4C92-9F03-26BA2165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555-2A5A-4A34-8996-324B8FE1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3BA7-2B13-4E4D-9E4D-E3ED0D8C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5A22-6777-4570-9B47-C9D91670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D3D7-B84F-4C16-B329-4BC05D87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72C9-1A21-480C-9849-4C8A9369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8C8C-39B4-45F0-A205-46524CA3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1235-9EE6-4604-B851-FEC2B7D7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60C4-9462-41D7-A8D4-ABB44359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6B6-2D96-4CA3-9915-C9FF0259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78D0-CDF0-49C4-BFB7-5A17A6AD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FE2D-A124-49FF-A210-42A506FC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6BFE-00A4-45D8-B828-A7F9DD40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F10E-EF17-43E2-AEC1-38957E4E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81D5-BD6D-44C9-9DEA-04DE790F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39DBD-C79A-42C1-AC4F-84E1F773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59A7C-9BCF-4460-829D-A20B0A7E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8FD69-7F05-4BC4-9CB2-9BC6015B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6F13C-D953-46D0-8320-8382D1E2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86B0F-88DD-4118-B640-F7A586B1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852E-A508-490D-BFBC-CFCF1DC8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1305-B629-4779-89CF-B05E1E22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0E73-4A84-47AA-A66D-692CBFC0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47A24-1A4B-4A07-A215-77059D4F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D5E4E-7363-4425-8492-26D534F5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70D7F-0F15-4801-8D5A-9CA5B991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44DD4-0FDE-460A-A458-864EAA22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B014A-0F0B-4C1F-BED1-B8850EFA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7A8EF-BB82-4290-82E0-ED26CE6C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EB806-EBCB-44D4-AD72-18AA3A4F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A63AE-C747-4688-97AD-D108073B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B82-68A7-43DC-A26A-C8591476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C4908-1D38-46DD-988F-53B9891C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E2442-CCDE-4AA0-9414-E06237D1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2B571-0782-4FBB-8600-B6758BA4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77932-503F-4B39-8560-BB9602A5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7E5E4-F25C-4780-868B-630C14C4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1EC68-B8C6-4934-91FE-63EB7E86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99BF1-04B5-4FD5-A9CA-BA7C7893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9E318-F54A-493F-B514-47911F35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7E1CD-D301-4130-AAD3-2B97852B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ADFA2-11FF-4B1F-941F-E38BD2E9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CCB2-ECBF-447E-AFAC-FA8191C1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4029E-3123-4D8E-860A-7DCDBCDA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EA2D6-1E3E-413C-9560-1EE20FE1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7DAB1-A993-4167-BFFE-22DCB952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1F977-AEF1-47BE-9E54-51E0484E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467CF-0C17-453A-8AE6-9620D2FF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ED1A5-6ABC-4F95-8449-39628E6E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49842-5635-4865-A415-82AA981F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C9739-90FF-4CF7-B6C7-1BD83F6F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A6248-A73B-4CC3-99D2-6656FCA1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ABFB3-A6B7-4289-A237-1E8727BF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B69-D312-46BE-B966-34C279FD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3144A-60D8-4E5B-B945-124AE400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B605C-37AF-4519-B196-B3B129E6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AC3ED-B202-428D-BA3B-4BDD11F6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421A7-8F23-475D-9141-D7B98F58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8A99A-D41E-4A09-919E-CE4200CD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EEDC5-5DD7-4F2E-A2BB-3782DED2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1884D-1633-41D0-BE0C-AF57514D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C9FE0-E09F-45B5-871F-B6F949B1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0EBB8-29A1-49C6-8580-69C28B5B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3A7B8-1387-4A6D-8684-E6D04BDB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28E-49E4-4238-9EF6-8D2B04AB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6A2CF-6B11-43C4-813C-AF02E6D7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9DA92-B661-4844-82EA-82F1D898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B02F7-A467-4ABB-A6E6-BA1F65A0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F19CF-16F0-435A-8CF7-F5460B82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D59C3-B5AB-4F05-8CE6-900C835A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57FE3-1E6D-428B-8636-9344043B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12D70-BA81-4FDB-BB3E-D72C34CA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DB0C7-4996-403C-9310-819F2ABE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476C8-2B39-429A-87A2-68907E5B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2A424-D69B-4ED6-B65F-219AE856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63B-5062-42C5-A474-2F0BF828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DE434-6DA3-4515-B9C7-1DE26997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51968-9015-4D8C-B7C4-7EBDA96E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E6D21-7E68-49B7-B048-010BF0CE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23DFF-B093-4F86-836D-3DCDEEC9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75014-5F60-4DA8-95A5-4CA8E9FC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A5823-4EB0-4A59-ABD6-4693E71B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48827-2C3B-4563-9B7C-D0F621E0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37DBC-0794-423A-ABB6-82B711CA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BBC20-EB5B-43C2-A524-868275BE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908A6-072C-4DCA-BCF3-406F8AA9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309D-EB9F-42C6-A615-9D1B7E40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01643-AEE2-47F1-BE48-6B78C382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016B4-6BFF-434B-84EB-FE96AD94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8BD18-31D9-4AD7-8D6E-8C56EE95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969C2-5EFF-4D73-86A6-B4C4574B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50C49-B76D-4B1A-8288-1E29ACFF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508E2-740C-4327-A2FD-207EBF9F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07021-90EB-4DE6-99AA-5BE6F3E3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overlayTex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CEDE2-23E5-4FE3-A777-9C5CBCE03A4D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overlayTitl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CCC21-7B33-45E2-A66C-F4921D534280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overlayTex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26FE6-207B-4840-8615-2F5EB97D6E75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overlayBlank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0034A-DB21-4063-B787-E9704D146DCB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overlayBlank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A52BE-4416-4129-97C2-A6D792D8E336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overlayBlank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C1127-761C-4F3B-B004-A61995092FF9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overlayBlank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B3064-15AF-4B9C-B266-ED492512B7B9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overlayVertical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F61EC-A910-42AD-8D9E-54D635626C20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9040" y="1596960"/>
            <a:ext cx="7583400" cy="16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Module 2</a:t>
            </a:r>
            <a:endParaRPr b="1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779040" y="3276720"/>
            <a:ext cx="758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it Ticke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0880" y="5797440"/>
            <a:ext cx="850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ureka Math is licensed by Great Minds under an Attribution-NonCommercial-ShareAlike 4.0 International license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9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lve each problem. Show that the placement of the decimal is correct through either estimation or fraction calculatio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8" name="Picture 3" descr="Screen Shot 2016-06-21 at 2.21.38 PM.png"/>
          <p:cNvPicPr/>
          <p:nvPr/>
        </p:nvPicPr>
        <p:blipFill>
          <a:blip r:embed="rId1"/>
          <a:stretch/>
        </p:blipFill>
        <p:spPr>
          <a:xfrm>
            <a:off x="2381400" y="3006720"/>
            <a:ext cx="40003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0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plete the problem using partial produc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1" name="Picture 3" descr="Screen Shot 2016-06-21 at 2.23.08 PM.png"/>
          <p:cNvPicPr/>
          <p:nvPr/>
        </p:nvPicPr>
        <p:blipFill>
          <a:blip r:embed="rId1"/>
          <a:stretch/>
        </p:blipFill>
        <p:spPr>
          <a:xfrm>
            <a:off x="2946240" y="2840040"/>
            <a:ext cx="23259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1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 estimation or fraction multiplication to determine if your answer is reasonable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Calculate the product. 78.93 × 32.45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Paint costs $29.95 per gallon. Nikki needs 12.25 gallons to complete a painting project. How much will Nikki spend on paint? Remember to round to the nearest penny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2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ound to estimate the quotient. Then, compute the quotient using a calculator, and compare the estimation to the quotient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4,732 ÷ 13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22,752 ÷ 16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3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ivide using the division algorithm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92,196 ÷ 87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4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timate quotients. Convert decimal division expressions to fractional division expressions to create whole number divisors. Compute the quotient using the division algorithm. Check your work with a calculator and your estimate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Lisa purchased almonds for $3.50 per pound. She spent a total of $24.50. How many pounds of almonds did she purchase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Divide: 125.01÷5.4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5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valuate the expression using mental math techniques and the division algorithm. Explain your reasoning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8.75 ÷ 2.5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6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termine whether each sum or product is even or odd. Explain your reasoning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56,426 + 17,895  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17,362 × 129,324  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0,481 + 4,569  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2,457 × 12,781  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how or explain why 12+13+14+15+16 results in an even sum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7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Is 26,341 divisible by 3? If it is divisible, write the number as the product of 3 and another factor. If not, explai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Is 8,397 divisible by 9? If it is divisible, write the number as the product of 9 and another factor. If not, explai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. Explain why 186,426 is divisible by both 3 and 9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8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52320" y="969480"/>
            <a:ext cx="7974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nd the LCM and GCF of 12 and 15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rite two numbers, neither of which is 8, whose GCF is 8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rite two numbers, neither of which is 28, whose LCM is 28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ate each of the stations you visited today. Use this scale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—Easy—I’ve got it; I don’t need any help. 2—Medium—I need more practice, but I understand some of it.            1—Hard—I’m not getting this yet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mplete the following chart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8" name="Picture 3" descr="Screen Shot 2016-06-21 at 2.32.28 PM.png"/>
          <p:cNvPicPr/>
          <p:nvPr/>
        </p:nvPicPr>
        <p:blipFill>
          <a:blip r:embed="rId1"/>
          <a:stretch/>
        </p:blipFill>
        <p:spPr>
          <a:xfrm>
            <a:off x="779400" y="4254480"/>
            <a:ext cx="75135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rite an equivalent multiplication expression. Then, find the quotient in its simplest form. Use a model to support your response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Picture 3" descr="Screen Shot 2016-06-21 at 1.54.32 PM.png"/>
          <p:cNvPicPr/>
          <p:nvPr/>
        </p:nvPicPr>
        <p:blipFill>
          <a:blip r:embed="rId1"/>
          <a:stretch/>
        </p:blipFill>
        <p:spPr>
          <a:xfrm>
            <a:off x="1957320" y="3156120"/>
            <a:ext cx="936720" cy="884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Screen Shot 2016-06-21 at 1.54.42 PM.png"/>
          <p:cNvPicPr/>
          <p:nvPr/>
        </p:nvPicPr>
        <p:blipFill>
          <a:blip r:embed="rId2"/>
          <a:stretch/>
        </p:blipFill>
        <p:spPr>
          <a:xfrm>
            <a:off x="1957320" y="4570560"/>
            <a:ext cx="936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9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 Euclid’s algorithm to find the greatest common factor of 45 and 75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2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lve each division problem using a model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Henry bought 4 pies, which he plans to share with a group of his friends. If there is exactly enough to give each member of the group one-sixth of the pie, how many people are in the group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Rachel finished       of the race in 6 hours. How long was the entire race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2" name="Picture 3" descr="Screen Shot 2016-06-21 at 1.57.22 PM.png"/>
          <p:cNvPicPr/>
          <p:nvPr/>
        </p:nvPicPr>
        <p:blipFill>
          <a:blip r:embed="rId1"/>
          <a:stretch/>
        </p:blipFill>
        <p:spPr>
          <a:xfrm>
            <a:off x="4186080" y="4624560"/>
            <a:ext cx="304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3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nd the quotient. Draw a model to support your solutio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5" name="Picture 3" descr="Screen Shot 2016-06-21 at 1.58.38 PM.png"/>
          <p:cNvPicPr/>
          <p:nvPr/>
        </p:nvPicPr>
        <p:blipFill>
          <a:blip r:embed="rId1"/>
          <a:stretch/>
        </p:blipFill>
        <p:spPr>
          <a:xfrm>
            <a:off x="1816200" y="2414520"/>
            <a:ext cx="1085760" cy="1009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Screen Shot 2016-06-21 at 1.58.49 PM.png"/>
          <p:cNvPicPr/>
          <p:nvPr/>
        </p:nvPicPr>
        <p:blipFill>
          <a:blip r:embed="rId2"/>
          <a:stretch/>
        </p:blipFill>
        <p:spPr>
          <a:xfrm>
            <a:off x="1816200" y="3692520"/>
            <a:ext cx="113328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4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lculate each quotient. If needed, draw a model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3" descr="Screen Shot 2016-06-21 at 2.02.41 PM.png"/>
          <p:cNvPicPr/>
          <p:nvPr/>
        </p:nvPicPr>
        <p:blipFill>
          <a:blip r:embed="rId1"/>
          <a:stretch/>
        </p:blipFill>
        <p:spPr>
          <a:xfrm>
            <a:off x="2127240" y="2467080"/>
            <a:ext cx="851040" cy="803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Screen Shot 2016-06-21 at 2.02.48 PM.png"/>
          <p:cNvPicPr/>
          <p:nvPr/>
        </p:nvPicPr>
        <p:blipFill>
          <a:blip r:embed="rId2"/>
          <a:stretch/>
        </p:blipFill>
        <p:spPr>
          <a:xfrm>
            <a:off x="2116080" y="3832200"/>
            <a:ext cx="8622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5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55800" y="1231560"/>
            <a:ext cx="723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rite a story problem using the measurement interpretation of division for the following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3" name="Picture 3" descr="Screen Shot 2016-06-21 at 2.04.37 PM.png"/>
          <p:cNvPicPr/>
          <p:nvPr/>
        </p:nvPicPr>
        <p:blipFill>
          <a:blip r:embed="rId1"/>
          <a:stretch/>
        </p:blipFill>
        <p:spPr>
          <a:xfrm>
            <a:off x="3762360" y="2496960"/>
            <a:ext cx="1451160" cy="890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Screen Shot 2016-06-22 at 3.20.48 PM.png"/>
          <p:cNvPicPr/>
          <p:nvPr/>
        </p:nvPicPr>
        <p:blipFill>
          <a:blip r:embed="rId2"/>
          <a:stretch/>
        </p:blipFill>
        <p:spPr>
          <a:xfrm>
            <a:off x="1373040" y="3535200"/>
            <a:ext cx="64198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6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rite a story problem using the partitive interpretation of division for the following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3" descr="Screen Shot 2016-06-21 at 2.10.12 PM.png"/>
          <p:cNvPicPr/>
          <p:nvPr/>
        </p:nvPicPr>
        <p:blipFill>
          <a:blip r:embed="rId1"/>
          <a:stretch/>
        </p:blipFill>
        <p:spPr>
          <a:xfrm>
            <a:off x="1428840" y="2406600"/>
            <a:ext cx="1517400" cy="909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Screen Shot 2016-06-21 at 2.10.24 PM.png"/>
          <p:cNvPicPr/>
          <p:nvPr/>
        </p:nvPicPr>
        <p:blipFill>
          <a:blip r:embed="rId2"/>
          <a:stretch/>
        </p:blipFill>
        <p:spPr>
          <a:xfrm>
            <a:off x="274680" y="3894120"/>
            <a:ext cx="81658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7 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93200" y="1076400"/>
            <a:ext cx="839628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Write the reciprocal of the following number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Rewrite this division expression as an equivalent multiplication expression:  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. Solve Problem 2. Draw a model to support your solution.  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Picture 3" descr="Screen Shot 2016-06-21 at 2.15.10 PM.png"/>
          <p:cNvPicPr/>
          <p:nvPr/>
        </p:nvPicPr>
        <p:blipFill>
          <a:blip r:embed="rId1"/>
          <a:stretch/>
        </p:blipFill>
        <p:spPr>
          <a:xfrm>
            <a:off x="4397400" y="3903840"/>
            <a:ext cx="985680" cy="968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Screen Shot 2016-06-21 at 2.16.02 PM.png"/>
          <p:cNvPicPr/>
          <p:nvPr/>
        </p:nvPicPr>
        <p:blipFill>
          <a:blip r:embed="rId2"/>
          <a:stretch/>
        </p:blipFill>
        <p:spPr>
          <a:xfrm>
            <a:off x="779400" y="1436760"/>
            <a:ext cx="730260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8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55800" y="1076040"/>
            <a:ext cx="7232400" cy="55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lculate the quotien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5" name="Picture 3" descr="Screen Shot 2016-06-21 at 2.18.51 PM.png"/>
          <p:cNvPicPr/>
          <p:nvPr/>
        </p:nvPicPr>
        <p:blipFill>
          <a:blip r:embed="rId1"/>
          <a:stretch/>
        </p:blipFill>
        <p:spPr>
          <a:xfrm>
            <a:off x="1514520" y="1643040"/>
            <a:ext cx="148428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20:48:13Z</dcterms:created>
  <dc:creator>user</dc:creator>
  <dc:description/>
  <dc:language>en-US</dc:language>
  <cp:lastModifiedBy>m m</cp:lastModifiedBy>
  <dcterms:modified xsi:type="dcterms:W3CDTF">2016-06-22T22:21:36Z</dcterms:modified>
  <cp:revision>27</cp:revision>
  <dc:subject/>
  <dc:title>Module 2</dc:title>
</cp:coreProperties>
</file>